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jpeg" ContentType="image/jpeg"/>
  <Override PartName="/ppt/media/image11.png" ContentType="image/png"/>
  <Override PartName="/ppt/media/image38.jpeg" ContentType="image/jpeg"/>
  <Override PartName="/ppt/media/image31.wmf" ContentType="image/x-wmf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8.png" ContentType="image/pn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49CF-FE3A-4E6E-830F-C50E00C52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BINANT DNA AND POLYMERASE CHAIN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lasmidcloning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IMATION –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ids will not work as well in eukaryotic organisms like plants 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thods need to be used to insert the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al vectors can be used for animal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can ‘inject’ their DNA into an animal hos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use this technique on all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 can be used to insert genes into pl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rt.purdue.edu/hort/courses/HORT250/animations/Gene%20Gun%20Animation/Genegun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echnologists a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Solv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betics having reactions to porcine/animal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at crops being attacked by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sick with cystic fib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se can be fixed by recombinant DNA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have made the gene – how do we get lots of copies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Plasmid is cut with the same restriction enzyme used to cut the insulin g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gene is cut from a pancreatic cell DNA using a specific restriction enzy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- Bacterial cells when supplied with required polypeptides or proteins, the colonies will produce insul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 Vaccines- The plamids are isolated from the e.coli cells, the genes are then amplifyed via PCR  and used to create inactivated viruses for vacc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make more copies of DNA from a tiny DNA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c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– Double Helix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piral strand is composed of a sugar phosphate backbone and attache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Bases: Adenine (A), Guanine(G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, and Thymine (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Base Pairs; A with T and C with G in the complementary strand v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(non- covalen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ands can be cut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riction enzymes, e.g. ECO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already kn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low Chart of P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recombinant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food crops with immunity to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nsic Crime scene analysi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Worl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are often used in biotechnology as they have plasm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asmid a circular piece of DNA that exists apart from the chromosome and replicates independently of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blanks of the work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that has been cut from one strand of DNA and then inserted into the gap of another piece of DNA that has been bro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st DNA is often a bacterial cell such as E co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splicing the gene into the host DNA is to produce many copies of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acteria reproduce in a very short time it is possible to make million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ies of the gene fairly 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Recombinant D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quired gene e.g. Insulin, is cut from the DNA using a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ircular piece of DNA, called a plasmid, is removed from the bacterial cell and is cut open using the same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t out human gene is then mixed with the bacterial plasmids in a test tu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have been cut with the same enzyme, the cut ends of the plasmid and the end of the human gene match. Often called ‘sticky end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 DNA ligase is used to stick the ends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ake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Introducing the Plasmid Back - 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done by combining them in a test tube with CaCl2. The high concentration of calcium ions makes the membranes of the bacteria more po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hen allows the plasmids to move into the bacterial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bacteria will take up a plasm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is why the monitoring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ich bacteria have the ge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cessary to isolate the host bacteria that contain the gene that has been spliced as only want the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ntaining the resistance to the antibiotic will survive and the others will be killed by the antibio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B44-1B0A-4F41-BD29-2319C6C7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935-2787-414E-965F-EBCA865C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74020-8730-4973-A4E1-3A6CABF4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4EF24-FD5F-4887-97E3-6A0C681C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58B90-65B8-4618-B7E9-838F2306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21A37-87C2-4D9E-A77A-6AF07B0C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9D057-8DC7-4B8D-9916-313745B7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37625-7F11-4DC5-9444-6F984BDF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4CD66-11AD-4D41-8F48-F2398C5E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5FA68-D258-492B-BF67-30C81E00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B5C65-61EF-4AB1-BBAF-327D6F79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E4ADD-C56B-4D1D-AEE8-1A11EBB6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34F-B37C-45DE-AF9B-F3F4041B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F2FE4-A12A-4D7E-92F6-29398728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2B5A7-C324-4FC9-8197-7005AD2D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1350B-9ED1-430B-B5B8-FAE42DA8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9C19F-6DFF-494A-94A6-C11A7398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A2E12-ED76-43B2-84AB-F59C7494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EEE30-DAD8-472D-B461-FE76C886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F3F43-3E9B-4560-AD9D-F3B44424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AB5C4-1F31-4E5E-8918-BDBC8E6A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6856E-E1E5-4A8D-882F-98F1FEF3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7F0B3-DC61-4949-8B27-C842CC5D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E5F-B4D7-4A9A-A804-5728CCA1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DAAAB-DA99-47B8-AE06-BE517365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C87D-FF31-4E94-9778-9253081B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2351-F1B2-4470-98E6-63F3455A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F5D5-3FF0-4953-A0BF-74B347DB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D1CE-781D-4E0E-A6A4-65467BB8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FBC0-450A-4603-BFA7-AB09D6A1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0E68-A709-4D4C-8D08-B38381A3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938C-5F13-4577-B1D3-C32699B5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3CB-DCBB-414B-B166-133789F8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32E7-C964-4579-B1ED-F56CD52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087D-2548-4273-B6A1-90056E5B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4F25-D5A0-47C1-B79B-B92B1FAB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6C45-90A3-4015-A2E1-91676614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5D2D-6704-41A9-89B1-079D9670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09BFC-2B7F-46BB-9487-0475B949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A68E-DC25-4463-8706-A1B3678A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A278-9A77-4766-81DE-34FC66FD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6476-9BD3-4073-B139-B8D0B197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9A67-9A1B-44F8-A032-8B8D32D2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43C-0748-4572-B2D9-A288AAD2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7802-34D4-4028-9503-865F2734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E72CB-705E-46EC-9D42-76D5FAB7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AA8C1-6868-484C-A2A5-96260BEF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99C7-839E-4F2D-8A42-521BF710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D223-7E26-4538-ABCA-C284DDC2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2B4A-8CBE-461D-9CB2-26DFEC3C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4932C-B780-45BF-BBE8-C7CEF5E9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D6FAC-5C90-440B-99B7-B0CC801A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AEE7D-73EE-4854-9C6D-FD59FD78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4A86D-2BD5-43BD-A90C-8624BD05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2F6-3F6F-467E-9D81-1DD6A3A6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2AC7-0CF1-4BE7-9B38-5A1DA79B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87F3-8504-46D7-B0E8-983F60DA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51279-ACF8-4D90-B4B9-2C7B8FD6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102AE-7A31-4285-9289-4535497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B6E5-266D-446E-A1B0-BE0E20EF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D3081-EB34-408B-96CA-87B9D7A6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2E71A-1E54-44E5-828E-1AF97F84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0E32F-0AF5-421B-825A-9E409A18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CD0F-8CE2-469C-9579-D58D0D49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028FB-F3F2-4699-8F41-A9FFB46B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BF4-1F8B-42CD-BE4D-B517D6A5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21C54-4024-4583-8A19-61A16C03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DF2FA-0611-47E1-8D71-A5D21B67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E7907-7FBD-40B0-895F-6E6D2C43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31A9F-30FB-4360-ACEE-02A79201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7CA8E-479D-4D19-BEE1-D797AC9A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3C308-632C-4047-93E8-9DC0EECC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0F3E3-AFC4-4B37-927A-5B4B5501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F9724-0A55-4E7A-8D07-B377AD48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1A968-9D3A-4503-8B7E-9235D171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97F35-5BD6-41A8-A23C-14716A06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12D-B4F4-4B32-BE9D-FB7182EE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7CABF-5A22-47E5-9160-781BA603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42472-E0A4-4BCD-943D-947F7A1F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2A4A4-2135-4036-B454-26D5853F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ECED1-EAEA-4587-8F76-5C5FDE45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41399-E19C-4FBF-8C05-80A1DA4E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302E1-8777-40CF-BFE6-32E7D49D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2B14A-5003-438A-9532-929266B4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D141D-C7B5-420F-B311-B255344E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40FBD-6E75-4E1A-AAAF-B33A1BA8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953F4-C0CB-43F2-A001-225E31E1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E41-09AA-4C5C-BA36-F469DD5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C1639-064A-4B19-A631-6ED239F0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E287E-74A5-40D3-8E18-9B5D6B5B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DF008-8A58-4A07-AE45-FBDB1EEC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23B0E-5C17-4711-A8A8-AA5DCB51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9A97B-3D0F-498B-9D56-322F6691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300D1-E358-4F14-A6AD-68B2B96A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269D5-0BF4-4962-A763-6C432CE4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A1313-4DF0-4C27-A874-A5E2CA4E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81DCB-E427-46CE-B4F6-64D00D81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DEC78-74B5-455E-911F-40785594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EE0-F435-4856-9DA8-934F07E9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3CA3C-29B7-4C59-AF93-BECF4BFB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AE370-A188-4EC0-B537-D981B13F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15233-067C-44C6-896F-FF2B2EEC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C3A05-3140-4E94-811E-E680B3FE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50576-D948-445F-8FA1-D7A932AF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8B266-1339-49D8-B2AC-24960D1F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A12E5-F181-4FC0-A322-95120E85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6E07F-F56B-478C-9FF6-6841F89A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6120C-2494-4C70-95AC-06679CD8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51697-BA8D-4896-B8F5-BD325D09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063-AEA7-47CA-A7A9-874EDCCA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31C10-4D8E-47BB-A778-64BB423A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1B44A-366C-4F96-B403-DEE44CC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BCE11-9920-4D16-A630-432166CF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994CB-904B-4AE1-993C-7F70939C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008AA-91BD-4BA2-AE3F-7AA711CB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0641F-280F-47AB-A8B9-0C45EA4B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45AEC-76B6-48FD-88AA-7BCD252B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087AD-4CE0-4C14-9B10-55D7BFEB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69776-3292-4EB9-907C-1BE25657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FE867-E23C-4BD5-ACE4-3ACDB1B6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68D0-93F1-4D55-BFB3-64D99491F93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B211-A372-4918-902F-46F7E4520C1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327A-B5E8-43C1-8364-8D3151D0846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FD09-9CF0-494A-9DBC-7005FCCF3E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1B62-3B6D-4BC9-9E43-D84F8B11E18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7C12-4117-4898-A6AF-C1CE2525267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33EC-1038-4B37-A161-B2D43F7545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ECDE-21DE-4289-8BB4-0E7CCFA2EC1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37A7-3728-4969-BC6C-57AF7BC10B0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C6F1-027B-408D-BC31-A4BA7D414BF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lasmidcloning.html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rt.purdue.edu/hort/courses/HORT250/animations/Gene%20Gun%20Animation/Genegun1.html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hyperlink" Target="http://www.sumanasinc.com/webcontent/animations/content/pc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237960" y="493560"/>
            <a:ext cx="8631360" cy="1743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3" name="Picture 3" descr="gejoke"/>
          <p:cNvPicPr/>
          <p:nvPr/>
        </p:nvPicPr>
        <p:blipFill>
          <a:blip r:embed="rId2"/>
          <a:stretch/>
        </p:blipFill>
        <p:spPr>
          <a:xfrm>
            <a:off x="1905120" y="2143080"/>
            <a:ext cx="5371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3680" y="133200"/>
            <a:ext cx="7997760" cy="10558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62120" y="55623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tibiotic resistance gene used to identify recombinant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Picture 7" descr="f10-10_one_method_for_s_c"/>
          <p:cNvPicPr/>
          <p:nvPr/>
        </p:nvPicPr>
        <p:blipFill>
          <a:blip r:embed="rId2"/>
          <a:stretch/>
        </p:blipFill>
        <p:spPr>
          <a:xfrm>
            <a:off x="1828800" y="1066680"/>
            <a:ext cx="5334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umanasinc.com/webcontent/animations/content/plasmidcloning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Title 1" descr=""/>
          <p:cNvPicPr/>
          <p:nvPr/>
        </p:nvPicPr>
        <p:blipFill>
          <a:blip r:embed="rId2"/>
          <a:stretch/>
        </p:blipFill>
        <p:spPr>
          <a:xfrm>
            <a:off x="244440" y="274680"/>
            <a:ext cx="8442360" cy="1189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714240" y="2214720"/>
            <a:ext cx="7701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lasmids will not work as well in eukaryotic organisms like plants and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Other methods need to be used to insert the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Viral vectors can be used for animal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e virus can ‘inject’ their DNA into an animal host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virus2"/>
          <p:cNvPicPr/>
          <p:nvPr/>
        </p:nvPicPr>
        <p:blipFill>
          <a:blip r:embed="rId2"/>
          <a:stretch/>
        </p:blipFill>
        <p:spPr>
          <a:xfrm rot="285000">
            <a:off x="6441840" y="4362120"/>
            <a:ext cx="24429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17114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Gene Gun can be used to insert genes into plant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rt.purdue.edu/hort/courses/HORT250/animations/Gene%20Gun%20Animation/Genegun1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2"/>
          <a:stretch/>
        </p:blipFill>
        <p:spPr>
          <a:xfrm>
            <a:off x="2487600" y="274680"/>
            <a:ext cx="8485200" cy="1346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MCj02321110000[1]"/>
          <p:cNvPicPr/>
          <p:nvPr/>
        </p:nvPicPr>
        <p:blipFill>
          <a:blip r:embed="rId3"/>
          <a:stretch/>
        </p:blipFill>
        <p:spPr>
          <a:xfrm>
            <a:off x="108000" y="465300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MCj03393020000[1]"/>
          <p:cNvPicPr/>
          <p:nvPr/>
        </p:nvPicPr>
        <p:blipFill>
          <a:blip r:embed="rId4"/>
          <a:stretch/>
        </p:blipFill>
        <p:spPr>
          <a:xfrm>
            <a:off x="7308720" y="460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3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betics having reactions to porcine/animal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at crops being attacked by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sick with cystic fibr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se can be fixed by recombinant DNA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Picture 5" descr="MCj04398510000[1]"/>
          <p:cNvPicPr/>
          <p:nvPr/>
        </p:nvPicPr>
        <p:blipFill>
          <a:blip r:embed="rId2"/>
          <a:stretch/>
        </p:blipFill>
        <p:spPr>
          <a:xfrm>
            <a:off x="7236000" y="189000"/>
            <a:ext cx="19238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-360" y="571680"/>
            <a:ext cx="871524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ucida Sans Unicode"/>
              </a:rPr>
              <a:t>Now we have made the gene – how do we get lots of copies?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Diagram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926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857160" y="142920"/>
            <a:ext cx="207180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E.Coli Plasmid is cut with the same restriction enzyme used to cut the insulin ge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429240" y="142920"/>
            <a:ext cx="2143440" cy="5713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Insulin gene is cut from a pancreatic cell DNA using a specific restriction enzy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57120" y="6143760"/>
            <a:ext cx="285768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sulin - Bacterial cells when supplied with required polypeptides or proteins, the colonies will produce insu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929200" y="6143760"/>
            <a:ext cx="300060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E.g Vaccines- The plamids are isolated from the e.coli cells, the genes are then amplifyed via PCR  and used to create inactivated viruses for vacc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ight Arrow 6"/>
          <p:cNvSpPr/>
          <p:nvPr/>
        </p:nvSpPr>
        <p:spPr>
          <a:xfrm>
            <a:off x="3071880" y="4287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eft Arrow 7"/>
          <p:cNvSpPr/>
          <p:nvPr/>
        </p:nvSpPr>
        <p:spPr>
          <a:xfrm>
            <a:off x="5929200" y="500040"/>
            <a:ext cx="357480" cy="1429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Straight Arrow Connector 12"/>
          <p:cNvCxnSpPr/>
          <p:nvPr/>
        </p:nvCxnSpPr>
        <p:spPr>
          <a:xfrm>
            <a:off x="4857480" y="6215040"/>
            <a:ext cx="786600" cy="286560"/>
          </a:xfrm>
          <a:prstGeom prst="straightConnector1">
            <a:avLst/>
          </a:prstGeom>
          <a:ln w="4428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18" name="Straight Arrow Connector 14"/>
          <p:cNvCxnSpPr/>
          <p:nvPr/>
        </p:nvCxnSpPr>
        <p:spPr>
          <a:xfrm flipH="1">
            <a:off x="3428640" y="6215040"/>
            <a:ext cx="1000800" cy="286560"/>
          </a:xfrm>
          <a:prstGeom prst="straightConnector1">
            <a:avLst/>
          </a:prstGeom>
          <a:ln w="5076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463680" y="176040"/>
            <a:ext cx="7997760" cy="10494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523800" y="1576440"/>
            <a:ext cx="41911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mplementary strands of DNA can be separated and re-associated by heating and cool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One strand of DNA specifies the sequence of the other str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Picture 6" descr="f10-1a_dna_heating_and__c"/>
          <p:cNvPicPr/>
          <p:nvPr/>
        </p:nvPicPr>
        <p:blipFill>
          <a:blip r:embed="rId2"/>
          <a:stretch/>
        </p:blipFill>
        <p:spPr>
          <a:xfrm>
            <a:off x="5029200" y="2057400"/>
            <a:ext cx="38098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sumanas_pcr.m4v" descr=""/>
          <p:cNvPicPr/>
          <p:nvPr/>
        </p:nvPicPr>
        <p:blipFill>
          <a:blip r:embed="rId1"/>
          <a:stretch/>
        </p:blipFill>
        <p:spPr>
          <a:xfrm>
            <a:off x="2050920" y="1247760"/>
            <a:ext cx="5500800" cy="4125960"/>
          </a:xfrm>
          <a:prstGeom prst="rect">
            <a:avLst/>
          </a:prstGeom>
          <a:ln w="0">
            <a:noFill/>
          </a:ln>
        </p:spPr>
      </p:pic>
      <p:pic>
        <p:nvPicPr>
          <p:cNvPr id="523" name="Title 1" descr=""/>
          <p:cNvPicPr/>
          <p:nvPr/>
        </p:nvPicPr>
        <p:blipFill>
          <a:blip r:embed="rId2"/>
          <a:stretch/>
        </p:blipFill>
        <p:spPr>
          <a:xfrm>
            <a:off x="835200" y="274680"/>
            <a:ext cx="8484840" cy="12430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7"/>
          <p:cNvSpPr/>
          <p:nvPr/>
        </p:nvSpPr>
        <p:spPr>
          <a:xfrm>
            <a:off x="-216000" y="5516640"/>
            <a:ext cx="93963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Used to make more copies of DNA from a tiny DN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umanasinc.com/webcontent/animations/content/pcr.html</a:t>
            </a:r>
            <a:r>
              <a:rPr b="0" lang="en-A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384120" y="85680"/>
            <a:ext cx="8266320" cy="16146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37720" y="5866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909"/>
                </a:solidFill>
                <a:latin typeface="Lucida Sans Unicode"/>
              </a:rPr>
              <a:t>Primer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specify what DNA is copi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7" name="Picture 5" descr="f10-6a_diagram_of_the_p_c"/>
          <p:cNvPicPr/>
          <p:nvPr/>
        </p:nvPicPr>
        <p:blipFill>
          <a:blip r:embed="rId2"/>
          <a:srcRect l="0" t="0" r="0" b="45000"/>
          <a:stretch/>
        </p:blipFill>
        <p:spPr>
          <a:xfrm>
            <a:off x="990720" y="1600200"/>
            <a:ext cx="67816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341360"/>
            <a:ext cx="77580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– Double Helix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spiral strand is composed of a sugar phosphate backbone and attached 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 Bases: Adenine (A), Guanine(G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(C), and Thymine (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 Base Pairs; A with T and C with G in the complementary strand vi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gen bonding (non- covalent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trands can be cut 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riction enzymes, e.g. ECOR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dna.gif"/>
          <p:cNvPicPr/>
          <p:nvPr/>
        </p:nvPicPr>
        <p:blipFill>
          <a:blip r:embed="rId2"/>
          <a:stretch/>
        </p:blipFill>
        <p:spPr>
          <a:xfrm>
            <a:off x="6537240" y="4005360"/>
            <a:ext cx="2787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433440" y="60948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80520" y="41907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tic enginee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Picture 3" descr="f10-6b_diagram_of_the_p_c"/>
          <p:cNvPicPr/>
          <p:nvPr/>
        </p:nvPicPr>
        <p:blipFill>
          <a:blip r:embed="rId2"/>
          <a:stretch/>
        </p:blipFill>
        <p:spPr>
          <a:xfrm>
            <a:off x="228600" y="1752480"/>
            <a:ext cx="86104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6348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roduction of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recombinant vaccin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food crops with immunity to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rensic Crime scene analysis 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profi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1268280" y="549360"/>
            <a:ext cx="8479080" cy="1243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MCj02908650000[1]"/>
          <p:cNvPicPr/>
          <p:nvPr/>
        </p:nvPicPr>
        <p:blipFill>
          <a:blip r:embed="rId2"/>
          <a:stretch/>
        </p:blipFill>
        <p:spPr>
          <a:xfrm>
            <a:off x="6227640" y="427356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MCj02152430000[1]"/>
          <p:cNvPicPr/>
          <p:nvPr/>
        </p:nvPicPr>
        <p:blipFill>
          <a:blip r:embed="rId3"/>
          <a:stretch/>
        </p:blipFill>
        <p:spPr>
          <a:xfrm rot="1014600">
            <a:off x="217440" y="43920"/>
            <a:ext cx="1185840" cy="2268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MCj04417140000[1]"/>
          <p:cNvPicPr/>
          <p:nvPr/>
        </p:nvPicPr>
        <p:blipFill>
          <a:blip r:embed="rId4"/>
          <a:stretch/>
        </p:blipFill>
        <p:spPr>
          <a:xfrm>
            <a:off x="6875640" y="907920"/>
            <a:ext cx="2376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ical issues related to “cloning” of human ge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will genetically engineered organisms affect environ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read of genes to other organis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will decid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eneticengtuna"/>
          <p:cNvPicPr/>
          <p:nvPr/>
        </p:nvPicPr>
        <p:blipFill>
          <a:blip r:embed="rId1"/>
          <a:stretch/>
        </p:blipFill>
        <p:spPr>
          <a:xfrm>
            <a:off x="2154240" y="457200"/>
            <a:ext cx="477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Bacteria are often used in biotechnology as they have plasm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lasmid a circular piece of DNA that exists apart from the chromosome and replicates independently of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plasmid.jpg"/>
          <p:cNvPicPr/>
          <p:nvPr/>
        </p:nvPicPr>
        <p:blipFill>
          <a:blip r:embed="rId2"/>
          <a:stretch/>
        </p:blipFill>
        <p:spPr>
          <a:xfrm>
            <a:off x="428760" y="4286160"/>
            <a:ext cx="3714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19700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that has been cut from one strand of DNA and then inserted into the gap of another piece of DNA that has been bro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st DNA is often a bacterial cell such a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 co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urpose of splicing the gene into the host DNA is to produce many copies of i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bacteria reproduce in a very short time it is possible to make millions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ies of the gene fairly quick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bacteria"/>
          <p:cNvPicPr/>
          <p:nvPr/>
        </p:nvPicPr>
        <p:blipFill>
          <a:blip r:embed="rId2"/>
          <a:stretch/>
        </p:blipFill>
        <p:spPr>
          <a:xfrm>
            <a:off x="6372360" y="4724280"/>
            <a:ext cx="26841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required gene e.g. Insulin, is cut from the DNA using a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 circular piece of DNA, called a plasmid, is removed from the bacterial cell and is cut open using the same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cut out human gene is then mixed with the bacterial plasmids in a test tub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cause they have been cut with the same enzyme, the cut ends of the plasmid and the end of the human gene match. Often called ‘sticky ends’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enzyme DNA ligase is used to stick the ends togeth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Tit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ontent Placeholder 3" descr="inserting.gif"/>
          <p:cNvPicPr/>
          <p:nvPr/>
        </p:nvPicPr>
        <p:blipFill>
          <a:blip r:embed="rId1"/>
          <a:stretch/>
        </p:blipFill>
        <p:spPr>
          <a:xfrm>
            <a:off x="1714680" y="714240"/>
            <a:ext cx="53575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n be done by combining them in a test tube with CaCl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. The high concentration of calcium ions makes the membranes of the bacteria more porou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is then allows the plasmids to move into the bacterial cell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t all bacteria will take up a plasmi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nd this is why the monitoring mu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pp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7" descr="MCj04417150000[1]"/>
          <p:cNvPicPr/>
          <p:nvPr/>
        </p:nvPicPr>
        <p:blipFill>
          <a:blip r:embed="rId2"/>
          <a:stretch/>
        </p:blipFill>
        <p:spPr>
          <a:xfrm>
            <a:off x="7236000" y="471816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4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ecessary to isolate the host bacteria that contain the gene that has been spliced as only want the recombinant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acteria containing the resistance to the antibiotic will survive and the others will be killed by the antibiot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7:47:47Z</dcterms:created>
  <dc:creator>Corporate Edition</dc:creator>
  <dc:description/>
  <dc:language>en-US</dc:language>
  <cp:lastModifiedBy>RomaK</cp:lastModifiedBy>
  <dcterms:modified xsi:type="dcterms:W3CDTF">2015-09-04T11:35:12Z</dcterms:modified>
  <cp:revision>37</cp:revision>
  <dc:subject/>
  <dc:title>RECOMBINANT DNA AND POLYMERASE CHAIN REACTIONS</dc:title>
</cp:coreProperties>
</file>